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89CA-672D-43C4-B4AB-247D5BE5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79F5-5D5E-4FB0-9C6F-69E41411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1AC4-6055-485B-B93C-D90C03E7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9E28-171B-47C6-A6F0-31CFFDC1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D32-FE30-4C68-A643-5CA047C5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5731-3F0F-42B1-9094-FAF2D7B3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325-28E2-4006-8531-1E8E09C7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77B-C769-4C5E-B77C-4A410C096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9CA-40F1-4799-A601-3A71EFBF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2215-E40C-495D-9479-12782D82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F315-A992-4E57-A4B5-8ABA62DD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20F8-24E9-4D3C-B251-0047C4C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A8A9-F38F-4FC9-9EE6-20CC26FAB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ÉNERGIE CINÉTIQUE et TRAVAI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858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858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ésentation du dispositif expérime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76320" y="304920"/>
            <a:ext cx="9067680" cy="4152960"/>
            <a:chOff x="76320" y="304920"/>
            <a:chExt cx="9067680" cy="4152960"/>
          </a:xfrm>
        </p:grpSpPr>
        <p:grpSp>
          <p:nvGrpSpPr>
            <p:cNvPr id="45" name=""/>
            <p:cNvGrpSpPr/>
            <p:nvPr/>
          </p:nvGrpSpPr>
          <p:grpSpPr>
            <a:xfrm>
              <a:off x="609480" y="990720"/>
              <a:ext cx="6781680" cy="3058920"/>
              <a:chOff x="609480" y="990720"/>
              <a:chExt cx="6781680" cy="3058920"/>
            </a:xfrm>
          </p:grpSpPr>
          <p:pic>
            <p:nvPicPr>
              <p:cNvPr id="46" name="Banc%20Magnum2" descr=""/>
              <p:cNvPicPr/>
              <p:nvPr/>
            </p:nvPicPr>
            <p:blipFill>
              <a:blip r:embed="rId1"/>
              <a:stretch/>
            </p:blipFill>
            <p:spPr>
              <a:xfrm>
                <a:off x="1452600" y="1113840"/>
                <a:ext cx="5938560" cy="293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flipH="1">
                <a:off x="1278000" y="2137320"/>
                <a:ext cx="2997360" cy="23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59560" y="2363400"/>
                <a:ext cx="395640" cy="395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49480" y="2553840"/>
                <a:ext cx="0" cy="85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015560" y="3402000"/>
                <a:ext cx="262080" cy="416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>
                <a:off x="5221800" y="990720"/>
                <a:ext cx="10692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>
                <a:off x="6779520" y="1705320"/>
                <a:ext cx="524160" cy="31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flipV="1">
                <a:off x="5565600" y="2697840"/>
                <a:ext cx="647640" cy="73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09480" y="1849320"/>
                <a:ext cx="524160" cy="52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 flipV="1">
                <a:off x="1334160" y="3700080"/>
                <a:ext cx="174600" cy="34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5181480" y="304920"/>
              <a:ext cx="33530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pteur double faisceau relié à un PC via l'interface ORP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086600" y="1143000"/>
              <a:ext cx="1752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anc Magnum avec souffler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00600" y="3429000"/>
              <a:ext cx="434340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stème 1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hariot comportant des barres verticales espacées de 3,6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320" y="14479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oulie fixée sur un 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9480" y="4038840"/>
              <a:ext cx="3048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stème 2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sse à cr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0" y="4419720"/>
            <a:ext cx="91440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éaliser ce dispositif, bien lire l’énonc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8769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ur que le banc soit bien horizonta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ettre en route la soufflerie, le chariot doit alors rester immobi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ir sur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pi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ndre un niveau à bulles, le placer perpendiculairement à l’axe du banc.Agir sur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e pi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49440" y="3886200"/>
            <a:ext cx="584280" cy="1981080"/>
          </a:xfrm>
          <a:custGeom>
            <a:avLst/>
            <a:gdLst/>
            <a:ahLst/>
            <a:rect l="l" t="t" r="r" b="b"/>
            <a:pathLst>
              <a:path w="368" h="1248">
                <a:moveTo>
                  <a:pt x="368" y="1248"/>
                </a:moveTo>
                <a:cubicBezTo>
                  <a:pt x="216" y="992"/>
                  <a:pt x="64" y="736"/>
                  <a:pt x="32" y="528"/>
                </a:cubicBezTo>
                <a:cubicBezTo>
                  <a:pt x="0" y="320"/>
                  <a:pt x="88" y="160"/>
                  <a:pt x="17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3124080"/>
            <a:ext cx="6121440" cy="3505320"/>
          </a:xfrm>
          <a:custGeom>
            <a:avLst/>
            <a:gdLst/>
            <a:ahLst/>
            <a:rect l="l" t="t" r="r" b="b"/>
            <a:pathLst>
              <a:path w="3856" h="2208">
                <a:moveTo>
                  <a:pt x="0" y="2208"/>
                </a:moveTo>
                <a:cubicBezTo>
                  <a:pt x="1480" y="2152"/>
                  <a:pt x="2960" y="2096"/>
                  <a:pt x="3408" y="1728"/>
                </a:cubicBezTo>
                <a:cubicBezTo>
                  <a:pt x="3856" y="1360"/>
                  <a:pt x="3272" y="680"/>
                  <a:pt x="2688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5275440"/>
            <a:ext cx="762012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I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  <a:ea typeface="Times New Roman"/>
              </a:rPr>
              <a:t>Prévis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quels paramètres dépend la vitesse du système 1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Felix%20chat" descr=""/>
          <p:cNvPicPr/>
          <p:nvPr/>
        </p:nvPicPr>
        <p:blipFill>
          <a:blip r:embed="rId1"/>
          <a:stretch/>
        </p:blipFill>
        <p:spPr>
          <a:xfrm>
            <a:off x="2192400" y="4568760"/>
            <a:ext cx="3504960" cy="1524240"/>
          </a:xfrm>
          <a:prstGeom prst="rect">
            <a:avLst/>
          </a:prstGeom>
          <a:ln w="0">
            <a:noFill/>
          </a:ln>
        </p:spPr>
      </p:pic>
      <p:grpSp>
        <p:nvGrpSpPr>
          <p:cNvPr id="67" name=""/>
          <p:cNvGrpSpPr/>
          <p:nvPr/>
        </p:nvGrpSpPr>
        <p:grpSpPr>
          <a:xfrm>
            <a:off x="114480" y="-25560"/>
            <a:ext cx="9067680" cy="4152960"/>
            <a:chOff x="114480" y="-25560"/>
            <a:chExt cx="9067680" cy="4152960"/>
          </a:xfrm>
        </p:grpSpPr>
        <p:grpSp>
          <p:nvGrpSpPr>
            <p:cNvPr id="68" name=""/>
            <p:cNvGrpSpPr/>
            <p:nvPr/>
          </p:nvGrpSpPr>
          <p:grpSpPr>
            <a:xfrm>
              <a:off x="647640" y="660240"/>
              <a:ext cx="6781680" cy="3058920"/>
              <a:chOff x="647640" y="660240"/>
              <a:chExt cx="6781680" cy="3058920"/>
            </a:xfrm>
          </p:grpSpPr>
          <p:pic>
            <p:nvPicPr>
              <p:cNvPr id="69" name="Banc%20Magnum2" descr=""/>
              <p:cNvPicPr/>
              <p:nvPr/>
            </p:nvPicPr>
            <p:blipFill>
              <a:blip r:embed="rId2"/>
              <a:stretch/>
            </p:blipFill>
            <p:spPr>
              <a:xfrm>
                <a:off x="1490760" y="783360"/>
                <a:ext cx="5938560" cy="2930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"/>
              <p:cNvSpPr/>
              <p:nvPr/>
            </p:nvSpPr>
            <p:spPr>
              <a:xfrm flipH="1">
                <a:off x="1316160" y="1806840"/>
                <a:ext cx="2997360" cy="231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197720" y="2032920"/>
                <a:ext cx="395640" cy="395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187640" y="2223360"/>
                <a:ext cx="0" cy="85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053720" y="3071520"/>
                <a:ext cx="262080" cy="4165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>
                <a:off x="5259960" y="660240"/>
                <a:ext cx="1069200" cy="64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>
                <a:off x="6817680" y="1374840"/>
                <a:ext cx="524160" cy="318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flipV="1">
                <a:off x="5603760" y="2367360"/>
                <a:ext cx="647640" cy="735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7640" y="1518840"/>
                <a:ext cx="524160" cy="52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1372320" y="3369600"/>
                <a:ext cx="174600" cy="349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5219640" y="-25560"/>
              <a:ext cx="33530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apteur double faisceau relié à un PC via l'interface ORPH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24760" y="812520"/>
              <a:ext cx="175248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anc Magnum avec souffleri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38760" y="3098520"/>
              <a:ext cx="434340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stème 1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chariot comportant des barres verticales espacées de 3,6 m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4480" y="111744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oulie fixée sur un suppor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640" y="3708360"/>
              <a:ext cx="30481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Système 2: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masse à croch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II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Étude théor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09920" y="1055520"/>
            <a:ext cx="31431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89240" y="814320"/>
            <a:ext cx="871560" cy="322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762440" y="836640"/>
            <a:ext cx="8715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108240" y="99360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35160" y="993600"/>
            <a:ext cx="235080" cy="23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0200" y="10936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6520" y="1452600"/>
            <a:ext cx="4172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73600" y="685800"/>
            <a:ext cx="17640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1219320"/>
            <a:ext cx="1771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0" y="1447920"/>
            <a:ext cx="6858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0960" y="2330280"/>
            <a:ext cx="417600" cy="417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0200" y="1876320"/>
            <a:ext cx="0" cy="44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276720"/>
            <a:ext cx="914400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tude du système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ire un bilan des forces extérieures appliquées au chariot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 forces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257800" y="990720"/>
            <a:ext cx="457200" cy="1428480"/>
            <a:chOff x="5257800" y="990720"/>
            <a:chExt cx="457200" cy="1428480"/>
          </a:xfrm>
        </p:grpSpPr>
        <p:sp>
          <p:nvSpPr>
            <p:cNvPr id="99" name=""/>
            <p:cNvSpPr/>
            <p:nvPr/>
          </p:nvSpPr>
          <p:spPr>
            <a:xfrm>
              <a:off x="5257800" y="990720"/>
              <a:ext cx="0" cy="99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5334120" y="1752480"/>
                  <a:ext cx="38088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1" name=""/>
          <p:cNvGrpSpPr/>
          <p:nvPr/>
        </p:nvGrpSpPr>
        <p:grpSpPr>
          <a:xfrm>
            <a:off x="5257800" y="0"/>
            <a:ext cx="488880" cy="990720"/>
            <a:chOff x="5257800" y="0"/>
            <a:chExt cx="488880" cy="990720"/>
          </a:xfrm>
        </p:grpSpPr>
        <p:sp>
          <p:nvSpPr>
            <p:cNvPr id="102" name=""/>
            <p:cNvSpPr/>
            <p:nvPr/>
          </p:nvSpPr>
          <p:spPr>
            <a:xfrm flipV="1">
              <a:off x="5257800" y="0"/>
              <a:ext cx="0" cy="990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" name=""/>
                <p:cNvSpPr txBox="1"/>
                <p:nvPr/>
              </p:nvSpPr>
              <p:spPr>
                <a:xfrm>
                  <a:off x="5334120" y="152280"/>
                  <a:ext cx="41256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4" name=""/>
          <p:cNvGrpSpPr/>
          <p:nvPr/>
        </p:nvGrpSpPr>
        <p:grpSpPr>
          <a:xfrm>
            <a:off x="4267080" y="228600"/>
            <a:ext cx="990720" cy="762120"/>
            <a:chOff x="4267080" y="228600"/>
            <a:chExt cx="990720" cy="762120"/>
          </a:xfrm>
        </p:grpSpPr>
        <p:sp>
          <p:nvSpPr>
            <p:cNvPr id="105" name=""/>
            <p:cNvSpPr/>
            <p:nvPr/>
          </p:nvSpPr>
          <p:spPr>
            <a:xfrm flipH="1">
              <a:off x="4267080" y="990720"/>
              <a:ext cx="990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4267080" y="228600"/>
                  <a:ext cx="3492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2847960"/>
            <a:ext cx="9144000" cy="1241640"/>
            <a:chOff x="0" y="2847960"/>
            <a:chExt cx="9144000" cy="1241640"/>
          </a:xfrm>
        </p:grpSpPr>
        <p:sp>
          <p:nvSpPr>
            <p:cNvPr id="108" name=""/>
            <p:cNvSpPr/>
            <p:nvPr/>
          </p:nvSpPr>
          <p:spPr>
            <a:xfrm>
              <a:off x="0" y="2847960"/>
              <a:ext cx="9144000" cy="1241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b)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Exprimer littéralement le travail mécanique de chacune de ces forces.</a:t>
              </a:r>
              <a:br>
                <a:rPr sz="2400"/>
              </a:b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Calculer le travail de la force poids      et le travail de la force      exercée par l’air au cours du déplacement de A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à B</a:t>
              </a:r>
              <a:r>
                <a:rPr b="0" lang="fr-F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9" name=""/>
                <p:cNvSpPr txBox="1"/>
                <p:nvPr/>
              </p:nvSpPr>
              <p:spPr>
                <a:xfrm>
                  <a:off x="4444920" y="3152880"/>
                  <a:ext cx="3049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0" name=""/>
                <p:cNvSpPr txBox="1"/>
                <p:nvPr/>
              </p:nvSpPr>
              <p:spPr>
                <a:xfrm>
                  <a:off x="7569360" y="3165480"/>
                  <a:ext cx="376200" cy="49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1" name=""/>
          <p:cNvSpPr/>
          <p:nvPr/>
        </p:nvSpPr>
        <p:spPr>
          <a:xfrm>
            <a:off x="3409920" y="1055520"/>
            <a:ext cx="31431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089240" y="814320"/>
            <a:ext cx="871560" cy="322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62440" y="836640"/>
            <a:ext cx="871560" cy="3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108240" y="99360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35160" y="993600"/>
            <a:ext cx="235080" cy="23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0200" y="109368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46520" y="1452600"/>
            <a:ext cx="4172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73600" y="685800"/>
            <a:ext cx="17640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1771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1447920"/>
            <a:ext cx="6858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20960" y="2330280"/>
            <a:ext cx="417600" cy="417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0200" y="1876320"/>
            <a:ext cx="0" cy="44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257800" y="990720"/>
            <a:ext cx="457200" cy="1428480"/>
            <a:chOff x="5257800" y="990720"/>
            <a:chExt cx="457200" cy="1428480"/>
          </a:xfrm>
        </p:grpSpPr>
        <p:sp>
          <p:nvSpPr>
            <p:cNvPr id="124" name=""/>
            <p:cNvSpPr/>
            <p:nvPr/>
          </p:nvSpPr>
          <p:spPr>
            <a:xfrm>
              <a:off x="5257800" y="990720"/>
              <a:ext cx="0" cy="990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5" name=""/>
                <p:cNvSpPr txBox="1"/>
                <p:nvPr/>
              </p:nvSpPr>
              <p:spPr>
                <a:xfrm>
                  <a:off x="5334120" y="1752480"/>
                  <a:ext cx="38088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6" name=""/>
          <p:cNvGrpSpPr/>
          <p:nvPr/>
        </p:nvGrpSpPr>
        <p:grpSpPr>
          <a:xfrm>
            <a:off x="5257800" y="0"/>
            <a:ext cx="488880" cy="990720"/>
            <a:chOff x="5257800" y="0"/>
            <a:chExt cx="488880" cy="990720"/>
          </a:xfrm>
        </p:grpSpPr>
        <p:sp>
          <p:nvSpPr>
            <p:cNvPr id="127" name=""/>
            <p:cNvSpPr/>
            <p:nvPr/>
          </p:nvSpPr>
          <p:spPr>
            <a:xfrm flipV="1">
              <a:off x="5257800" y="0"/>
              <a:ext cx="0" cy="99072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5334120" y="152280"/>
                  <a:ext cx="412560" cy="540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9" name=""/>
          <p:cNvGrpSpPr/>
          <p:nvPr/>
        </p:nvGrpSpPr>
        <p:grpSpPr>
          <a:xfrm>
            <a:off x="4267080" y="228600"/>
            <a:ext cx="990720" cy="762120"/>
            <a:chOff x="4267080" y="228600"/>
            <a:chExt cx="990720" cy="762120"/>
          </a:xfrm>
        </p:grpSpPr>
        <p:sp>
          <p:nvSpPr>
            <p:cNvPr id="130" name=""/>
            <p:cNvSpPr/>
            <p:nvPr/>
          </p:nvSpPr>
          <p:spPr>
            <a:xfrm flipH="1">
              <a:off x="4267080" y="990720"/>
              <a:ext cx="990720" cy="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4267080" y="228600"/>
                  <a:ext cx="34920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0" y="5761080"/>
                <a:ext cx="165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4843440"/>
                <a:ext cx="169056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0" y="4025880"/>
                <a:ext cx="1657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(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697040" y="4199040"/>
            <a:ext cx="25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tt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43120" y="494496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tt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54200" y="5916600"/>
            <a:ext cx="101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tt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4992840"/>
            <a:ext cx="13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06840" y="584208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alc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593040" y="4765680"/>
            <a:ext cx="2550960" cy="1853640"/>
            <a:chOff x="6593040" y="4765680"/>
            <a:chExt cx="2550960" cy="1853640"/>
          </a:xfrm>
        </p:grpSpPr>
        <p:pic>
          <p:nvPicPr>
            <p:cNvPr id="141" name="man_head_spinning_md_wht" descr=""/>
            <p:cNvPicPr/>
            <p:nvPr/>
          </p:nvPicPr>
          <p:blipFill>
            <a:blip r:embed="rId1"/>
            <a:stretch/>
          </p:blipFill>
          <p:spPr>
            <a:xfrm>
              <a:off x="6907320" y="476568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6593040" y="6159600"/>
              <a:ext cx="25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érification pr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2719440"/>
            <a:ext cx="9144000" cy="95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imer littéralement la variation d'énergie cinétiqu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C 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 système 1 en fonction de m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V²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V²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286000" y="0"/>
            <a:ext cx="4267080" cy="3081240"/>
            <a:chOff x="2286000" y="0"/>
            <a:chExt cx="4267080" cy="3081240"/>
          </a:xfrm>
        </p:grpSpPr>
        <p:sp>
          <p:nvSpPr>
            <p:cNvPr id="145" name=""/>
            <p:cNvSpPr/>
            <p:nvPr/>
          </p:nvSpPr>
          <p:spPr>
            <a:xfrm>
              <a:off x="3409920" y="1055520"/>
              <a:ext cx="3143160" cy="22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89240" y="814320"/>
              <a:ext cx="871560" cy="322200"/>
            </a:xfrm>
            <a:prstGeom prst="rect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62440" y="836640"/>
              <a:ext cx="871560" cy="3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08240" y="993600"/>
              <a:ext cx="16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35160" y="993600"/>
              <a:ext cx="235080" cy="23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040200" y="1093680"/>
              <a:ext cx="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46520" y="1452600"/>
              <a:ext cx="41724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73600" y="685800"/>
              <a:ext cx="176400" cy="538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1120" y="1219320"/>
              <a:ext cx="1771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1447920"/>
              <a:ext cx="685800" cy="16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20960" y="2330280"/>
              <a:ext cx="417600" cy="4176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40200" y="1876320"/>
              <a:ext cx="0" cy="4492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257800" y="990720"/>
              <a:ext cx="457200" cy="1428480"/>
              <a:chOff x="5257800" y="990720"/>
              <a:chExt cx="457200" cy="1428480"/>
            </a:xfrm>
          </p:grpSpPr>
          <p:sp>
            <p:nvSpPr>
              <p:cNvPr id="158" name=""/>
              <p:cNvSpPr/>
              <p:nvPr/>
            </p:nvSpPr>
            <p:spPr>
              <a:xfrm>
                <a:off x="5257800" y="990720"/>
                <a:ext cx="0" cy="990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9" name=""/>
                  <p:cNvSpPr txBox="1"/>
                  <p:nvPr/>
                </p:nvSpPr>
                <p:spPr>
                  <a:xfrm>
                    <a:off x="5334120" y="1752480"/>
                    <a:ext cx="38088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60" name=""/>
            <p:cNvGrpSpPr/>
            <p:nvPr/>
          </p:nvGrpSpPr>
          <p:grpSpPr>
            <a:xfrm>
              <a:off x="5257800" y="0"/>
              <a:ext cx="488880" cy="990720"/>
              <a:chOff x="5257800" y="0"/>
              <a:chExt cx="488880" cy="990720"/>
            </a:xfrm>
          </p:grpSpPr>
          <p:sp>
            <p:nvSpPr>
              <p:cNvPr id="161" name=""/>
              <p:cNvSpPr/>
              <p:nvPr/>
            </p:nvSpPr>
            <p:spPr>
              <a:xfrm flipV="1">
                <a:off x="5257800" y="0"/>
                <a:ext cx="0" cy="9907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2" name=""/>
                  <p:cNvSpPr txBox="1"/>
                  <p:nvPr/>
                </p:nvSpPr>
                <p:spPr>
                  <a:xfrm>
                    <a:off x="5334120" y="152280"/>
                    <a:ext cx="412560" cy="540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163" name=""/>
            <p:cNvGrpSpPr/>
            <p:nvPr/>
          </p:nvGrpSpPr>
          <p:grpSpPr>
            <a:xfrm>
              <a:off x="4267080" y="228600"/>
              <a:ext cx="990720" cy="762120"/>
              <a:chOff x="4267080" y="228600"/>
              <a:chExt cx="990720" cy="762120"/>
            </a:xfrm>
          </p:grpSpPr>
          <p:sp>
            <p:nvSpPr>
              <p:cNvPr id="164" name=""/>
              <p:cNvSpPr/>
              <p:nvPr/>
            </p:nvSpPr>
            <p:spPr>
              <a:xfrm flipH="1">
                <a:off x="4267080" y="990720"/>
                <a:ext cx="99072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65" name=""/>
                  <p:cNvSpPr txBox="1"/>
                  <p:nvPr/>
                </p:nvSpPr>
                <p:spPr>
                  <a:xfrm>
                    <a:off x="4267080" y="228600"/>
                    <a:ext cx="349200" cy="6667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</m:oMath>
                    </a14:m>
                  </a:p>
                </p:txBody>
              </p:sp>
            </mc:Choice>
            <mc:Fallback/>
          </mc:AlternateContent>
        </p:grpSp>
      </p:grpSp>
      <p:pic>
        <p:nvPicPr>
          <p:cNvPr id="166" name="man_head_spinning_md_wht" descr=""/>
          <p:cNvPicPr/>
          <p:nvPr/>
        </p:nvPicPr>
        <p:blipFill>
          <a:blip r:embed="rId1"/>
          <a:stretch/>
        </p:blipFill>
        <p:spPr>
          <a:xfrm>
            <a:off x="1758960" y="3514680"/>
            <a:ext cx="1035000" cy="1035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790720" y="3778200"/>
            <a:ext cx="25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érification pr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0" y="4740120"/>
            <a:ext cx="9144000" cy="2117880"/>
            <a:chOff x="0" y="4740120"/>
            <a:chExt cx="9144000" cy="2117880"/>
          </a:xfrm>
        </p:grpSpPr>
        <p:grpSp>
          <p:nvGrpSpPr>
            <p:cNvPr id="169" name=""/>
            <p:cNvGrpSpPr/>
            <p:nvPr/>
          </p:nvGrpSpPr>
          <p:grpSpPr>
            <a:xfrm>
              <a:off x="0" y="4740120"/>
              <a:ext cx="9144000" cy="1589760"/>
              <a:chOff x="0" y="4740120"/>
              <a:chExt cx="9144000" cy="1589760"/>
            </a:xfrm>
          </p:grpSpPr>
          <p:sp>
            <p:nvSpPr>
              <p:cNvPr id="170" name=""/>
              <p:cNvSpPr/>
              <p:nvPr/>
            </p:nvSpPr>
            <p:spPr>
              <a:xfrm>
                <a:off x="0" y="5438520"/>
                <a:ext cx="9144000" cy="8913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d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Utiliser l'encadré ci-dessus pour trouver une relation entre            et m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, V²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, V²</a:t>
                </a:r>
                <a:r>
                  <a:rPr b="0" lang="en-US" sz="2400" spc="-1" strike="noStrike" baseline="-30000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.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à encadre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71" name=""/>
                  <p:cNvSpPr txBox="1"/>
                  <p:nvPr/>
                </p:nvSpPr>
                <p:spPr>
                  <a:xfrm>
                    <a:off x="7508880" y="5395680"/>
                    <a:ext cx="934920" cy="536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</m:oMath>
                    </a14:m>
                  </a:p>
                </p:txBody>
              </p:sp>
            </mc:Choice>
            <mc:Fallback/>
          </mc:AlternateContent>
          <p:grpSp>
            <p:nvGrpSpPr>
              <p:cNvPr id="172" name=""/>
              <p:cNvGrpSpPr/>
              <p:nvPr/>
            </p:nvGrpSpPr>
            <p:grpSpPr>
              <a:xfrm>
                <a:off x="1227240" y="4740120"/>
                <a:ext cx="5786280" cy="694440"/>
                <a:chOff x="1227240" y="4740120"/>
                <a:chExt cx="5786280" cy="6944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1227240" y="4740120"/>
                  <a:ext cx="5786280" cy="694440"/>
                </a:xfrm>
                <a:prstGeom prst="rect">
                  <a:avLst/>
                </a:prstGeom>
                <a:solidFill>
                  <a:srgbClr val="ffff00"/>
                </a:solidFill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37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4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= E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B) </a:t>
                  </a:r>
                  <a:r>
                    <a:rPr b="1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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A) = </a:t>
                  </a:r>
                  <a:r>
                    <a:rPr b="1" lang="fr-FR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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W</a:t>
                  </a:r>
                  <a:r>
                    <a:rPr b="1" lang="en-GB" sz="2400" spc="-1" strike="noStrike" baseline="-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B</a:t>
                  </a:r>
                  <a:r>
                    <a:rPr b="1" lang="en-GB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       )</a:t>
                  </a:r>
                  <a:br>
                    <a:rPr sz="2400"/>
                  </a:b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174" name=""/>
                    <p:cNvSpPr txBox="1"/>
                    <p:nvPr/>
                  </p:nvSpPr>
                  <p:spPr>
                    <a:xfrm>
                      <a:off x="5238720" y="4813200"/>
                      <a:ext cx="482760" cy="50652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acc>
                            <m:accPr>
                              <m:chr m:val="⃗"/>
                            </m:accPr>
                            <m:e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t</m:t>
                                  </m:r>
                                </m:sub>
                              </m:sSub>
                            </m:e>
                          </m:acc>
                        </m:oMath>
                      </a14:m>
                    </a:p>
                  </p:txBody>
                </p:sp>
              </mc:Choice>
              <mc:Fallback/>
            </mc:AlternateContent>
          </p:grpSp>
        </p:grpSp>
        <p:pic>
          <p:nvPicPr>
            <p:cNvPr id="175" name="man_head_spinning_md_wht" descr=""/>
            <p:cNvPicPr/>
            <p:nvPr/>
          </p:nvPicPr>
          <p:blipFill>
            <a:blip r:embed="rId2"/>
            <a:stretch/>
          </p:blipFill>
          <p:spPr>
            <a:xfrm>
              <a:off x="3645000" y="5823000"/>
              <a:ext cx="1035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4676760" y="6086520"/>
              <a:ext cx="25509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érification pr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409920" y="1601640"/>
            <a:ext cx="3143160" cy="22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89240" y="1360440"/>
            <a:ext cx="871560" cy="3222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62440" y="1382760"/>
            <a:ext cx="871560" cy="3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108240" y="1539720"/>
            <a:ext cx="1633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35160" y="1539720"/>
            <a:ext cx="235080" cy="23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0200" y="163980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46520" y="1998720"/>
            <a:ext cx="417240" cy="41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73600" y="1231920"/>
            <a:ext cx="176400" cy="53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191120" y="1765440"/>
            <a:ext cx="17715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1994040"/>
            <a:ext cx="68580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20960" y="2876400"/>
            <a:ext cx="417600" cy="41760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0200" y="2422440"/>
            <a:ext cx="0" cy="449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044880" y="2197080"/>
            <a:ext cx="501480" cy="990720"/>
            <a:chOff x="3044880" y="2197080"/>
            <a:chExt cx="501480" cy="990720"/>
          </a:xfrm>
        </p:grpSpPr>
        <p:sp>
          <p:nvSpPr>
            <p:cNvPr id="190" name=""/>
            <p:cNvSpPr/>
            <p:nvPr/>
          </p:nvSpPr>
          <p:spPr>
            <a:xfrm>
              <a:off x="3044880" y="2197080"/>
              <a:ext cx="0" cy="9907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1" name=""/>
                <p:cNvSpPr txBox="1"/>
                <p:nvPr/>
              </p:nvSpPr>
              <p:spPr>
                <a:xfrm>
                  <a:off x="3102120" y="2381400"/>
                  <a:ext cx="44424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2" name=""/>
          <p:cNvGrpSpPr/>
          <p:nvPr/>
        </p:nvGrpSpPr>
        <p:grpSpPr>
          <a:xfrm>
            <a:off x="2549520" y="1006200"/>
            <a:ext cx="492120" cy="990360"/>
            <a:chOff x="2549520" y="1006200"/>
            <a:chExt cx="492120" cy="990360"/>
          </a:xfrm>
        </p:grpSpPr>
        <p:sp>
          <p:nvSpPr>
            <p:cNvPr id="193" name=""/>
            <p:cNvSpPr/>
            <p:nvPr/>
          </p:nvSpPr>
          <p:spPr>
            <a:xfrm flipV="1">
              <a:off x="3041640" y="1006200"/>
              <a:ext cx="0" cy="9903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"/>
                <p:cNvSpPr txBox="1"/>
                <p:nvPr/>
              </p:nvSpPr>
              <p:spPr>
                <a:xfrm>
                  <a:off x="2549520" y="1222200"/>
                  <a:ext cx="412920" cy="66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" name=""/>
          <p:cNvSpPr/>
          <p:nvPr/>
        </p:nvSpPr>
        <p:spPr>
          <a:xfrm>
            <a:off x="0" y="0"/>
            <a:ext cx="9144000" cy="1066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Étude du système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ire un bilan des forces extérieures appliquées à la masse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3368520"/>
            <a:ext cx="9144000" cy="3489480"/>
            <a:chOff x="0" y="3368520"/>
            <a:chExt cx="9144000" cy="3489480"/>
          </a:xfrm>
        </p:grpSpPr>
        <p:grpSp>
          <p:nvGrpSpPr>
            <p:cNvPr id="197" name=""/>
            <p:cNvGrpSpPr/>
            <p:nvPr/>
          </p:nvGrpSpPr>
          <p:grpSpPr>
            <a:xfrm>
              <a:off x="0" y="3368520"/>
              <a:ext cx="9144000" cy="2729160"/>
              <a:chOff x="0" y="3368520"/>
              <a:chExt cx="9144000" cy="2729160"/>
            </a:xfrm>
          </p:grpSpPr>
          <p:sp>
            <p:nvSpPr>
              <p:cNvPr id="198" name=""/>
              <p:cNvSpPr/>
              <p:nvPr/>
            </p:nvSpPr>
            <p:spPr>
              <a:xfrm>
                <a:off x="0" y="3368520"/>
                <a:ext cx="9144000" cy="82548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b)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Exprimer littéralement le travail de chacune de ces forces, puis remplacer cos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par sa valeur. </a:t>
                </a:r>
                <a:r>
                  <a:rPr b="1" lang="fr-FR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à encadrer</a:t>
                </a:r>
                <a:r>
                  <a:rPr b="0" lang="fr-FR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99" name=""/>
                  <p:cNvSpPr txBox="1"/>
                  <p:nvPr/>
                </p:nvSpPr>
                <p:spPr>
                  <a:xfrm>
                    <a:off x="0" y="4365720"/>
                    <a:ext cx="1792440" cy="7491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200" name=""/>
                  <p:cNvSpPr txBox="1"/>
                  <p:nvPr/>
                </p:nvSpPr>
                <p:spPr>
                  <a:xfrm>
                    <a:off x="15840" y="5348160"/>
                    <a:ext cx="1758960" cy="749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201" name=""/>
              <p:cNvSpPr/>
              <p:nvPr/>
            </p:nvSpPr>
            <p:spPr>
              <a:xfrm>
                <a:off x="1792440" y="4462560"/>
                <a:ext cx="202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ttér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98720" y="4459320"/>
                <a:ext cx="534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littéral mais cos</a:t>
                </a:r>
                <a:r>
                  <a:rPr b="0" i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 remplacé par sa vale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98720" y="5442120"/>
                <a:ext cx="534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littéral mais cos</a:t>
                </a:r>
                <a:r>
                  <a:rPr b="0" i="1" lang="fr-FR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0" i="1" lang="fr-FR" sz="2400" spc="-1" strike="noStrike">
                    <a:solidFill>
                      <a:srgbClr val="000000"/>
                    </a:solidFill>
                    <a:latin typeface="Times New Roman"/>
                  </a:rPr>
                  <a:t> remplacé par sa vale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751040" y="5457960"/>
                <a:ext cx="202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littér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05" name="man_head_spinning_md_wht" descr=""/>
            <p:cNvPicPr/>
            <p:nvPr/>
          </p:nvPicPr>
          <p:blipFill>
            <a:blip r:embed="rId1"/>
            <a:stretch/>
          </p:blipFill>
          <p:spPr>
            <a:xfrm>
              <a:off x="2830680" y="5823000"/>
              <a:ext cx="1035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3862440" y="6086520"/>
              <a:ext cx="255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vérification pr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235728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revenir au texte du TP III. 2)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Verdana"/>
              </a:rPr>
              <a:t>appeler le professeur si beso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07:44:50Z</dcterms:created>
  <dc:creator>Jocelyn CLEMENT</dc:creator>
  <dc:description/>
  <dc:language>en-US</dc:language>
  <cp:lastModifiedBy>Jocelyn CLEMENT</cp:lastModifiedBy>
  <dcterms:modified xsi:type="dcterms:W3CDTF">2005-12-13T05:44:42Z</dcterms:modified>
  <cp:revision>56</cp:revision>
  <dc:subject/>
  <dc:title>Présentation PowerPoint</dc:title>
</cp:coreProperties>
</file>