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BCE-885D-41C8-90BE-91A0B70D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7B4-E6F8-4E6F-A551-48F7B2E3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D4FD-F3E9-4C15-8AE6-19B2AE72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A305-A522-4E92-A9A5-69D3ECEF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FC2-293C-4B55-81BD-B19B1FA7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B73-8355-4E89-A686-94B49753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ACE9-93A5-443D-B173-9CB979C5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CACD-F906-4913-BD72-1CD7509B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A08D-18CF-415B-B12F-622C681E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3A33-019D-4D62-8334-160AFD33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80A-A2E9-4A68-ADB8-DC51ED20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DBFD-A702-4351-A1B6-BB0D1E0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A59A2-F4A3-4496-A79B-B22D44C8AD1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Principe du rétroprojecte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84360" y="5316480"/>
            <a:ext cx="2244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édactrice : C.Dibarbo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Lycée Raymond N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31 000 Toulou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sitionnement du système 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79640" y="1619280"/>
            <a:ext cx="7237440" cy="4431960"/>
            <a:chOff x="1079640" y="1619280"/>
            <a:chExt cx="7237440" cy="4431960"/>
          </a:xfrm>
        </p:grpSpPr>
        <p:grpSp>
          <p:nvGrpSpPr>
            <p:cNvPr id="46" name=""/>
            <p:cNvGrpSpPr/>
            <p:nvPr/>
          </p:nvGrpSpPr>
          <p:grpSpPr>
            <a:xfrm>
              <a:off x="1079640" y="1619280"/>
              <a:ext cx="7200720" cy="4319280"/>
              <a:chOff x="1079640" y="1619280"/>
              <a:chExt cx="7200720" cy="431928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1079640" y="1619280"/>
                <a:ext cx="7200360" cy="4319280"/>
                <a:chOff x="1079640" y="1619280"/>
                <a:chExt cx="7200360" cy="431928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107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125928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143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61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179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197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15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233928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252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269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288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05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323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341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59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77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395928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14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31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50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67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86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03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22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540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57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576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593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612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29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48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65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684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02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20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8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56036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74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92036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810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827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1079640" y="16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079640" y="18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9640" y="204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9640" y="222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9640" y="240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9640" y="25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9640" y="276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9640" y="29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79640" y="31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079640" y="330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079640" y="34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079640" y="366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079640" y="38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79640" y="40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079640" y="420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079640" y="438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079640" y="45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079640" y="474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79640" y="492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1079640" y="510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079640" y="528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079640" y="54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079640" y="56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079640" y="58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3811680" y="2043000"/>
              <a:ext cx="16761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573880" y="2060280"/>
              <a:ext cx="0" cy="2880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4096080" y="4268520"/>
              <a:ext cx="1261080" cy="1356120"/>
              <a:chOff x="4096080" y="4268520"/>
              <a:chExt cx="1261080" cy="1356120"/>
            </a:xfrm>
          </p:grpSpPr>
          <p:sp>
            <p:nvSpPr>
              <p:cNvPr id="116" name=""/>
              <p:cNvSpPr/>
              <p:nvPr/>
            </p:nvSpPr>
            <p:spPr>
              <a:xfrm flipH="1">
                <a:off x="4096080" y="4272480"/>
                <a:ext cx="1257120" cy="12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5327640" y="4268520"/>
                <a:ext cx="2952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5221800" y="43732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5113800" y="448128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5008680" y="458568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4907160" y="468936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4801680" y="479376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93680" y="4902120"/>
                <a:ext cx="2952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4587840" y="50068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4486680" y="510912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4381200" y="521352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273200" y="53218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4167720" y="542664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3230640" y="4032000"/>
              <a:ext cx="0" cy="180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16000" y="4927320"/>
              <a:ext cx="72010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257640" y="6005520"/>
              <a:ext cx="1439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87960" y="4908240"/>
              <a:ext cx="54000" cy="54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25800" y="4908240"/>
              <a:ext cx="54000" cy="54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030400" y="4937040"/>
              <a:ext cx="257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73480" y="4917960"/>
              <a:ext cx="3430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754440" y="573696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2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5400000">
              <a:off x="5101920" y="367488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4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64040" y="4889520"/>
              <a:ext cx="323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9480" y="4956120"/>
              <a:ext cx="323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24000" y="3429000"/>
            <a:ext cx="1795320" cy="474840"/>
          </a:xfrm>
          <a:noFill/>
          <a:ln w="9360">
            <a:solidFill>
              <a:srgbClr val="00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Comic Sans MS"/>
              </a:rPr>
              <a:t>Lentille de pro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27280" y="1722600"/>
            <a:ext cx="782640" cy="474480"/>
          </a:xfrm>
          <a:noFill/>
          <a:ln w="9360">
            <a:solidFill>
              <a:srgbClr val="00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Comic Sans MS"/>
              </a:rPr>
              <a:t>Ec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481800" y="4197240"/>
            <a:ext cx="1042920" cy="474840"/>
          </a:xfrm>
          <a:noFill/>
          <a:ln w="9360">
            <a:solidFill>
              <a:srgbClr val="0000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333399"/>
                </a:solidFill>
                <a:latin typeface="Comic Sans MS"/>
              </a:rPr>
              <a:t>Miroir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1079640" y="1619280"/>
            <a:ext cx="7237440" cy="4431960"/>
            <a:chOff x="1079640" y="1619280"/>
            <a:chExt cx="7237440" cy="4431960"/>
          </a:xfrm>
        </p:grpSpPr>
        <p:grpSp>
          <p:nvGrpSpPr>
            <p:cNvPr id="144" name=""/>
            <p:cNvGrpSpPr/>
            <p:nvPr/>
          </p:nvGrpSpPr>
          <p:grpSpPr>
            <a:xfrm>
              <a:off x="1079640" y="1619280"/>
              <a:ext cx="7200720" cy="4319280"/>
              <a:chOff x="1079640" y="1619280"/>
              <a:chExt cx="7200720" cy="4319280"/>
            </a:xfrm>
          </p:grpSpPr>
          <p:grpSp>
            <p:nvGrpSpPr>
              <p:cNvPr id="145" name=""/>
              <p:cNvGrpSpPr/>
              <p:nvPr/>
            </p:nvGrpSpPr>
            <p:grpSpPr>
              <a:xfrm>
                <a:off x="1079640" y="1619280"/>
                <a:ext cx="7200360" cy="4319280"/>
                <a:chOff x="1079640" y="1619280"/>
                <a:chExt cx="7200360" cy="431928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107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5928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43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61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79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7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15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33928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52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69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88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05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23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41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59928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77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95928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414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31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50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67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6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503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22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0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57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76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93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12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29964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48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65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84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02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20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8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56036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7740000" y="1619280"/>
                  <a:ext cx="72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92036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810000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8279640" y="1619280"/>
                  <a:ext cx="360" cy="431928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1079640" y="16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079640" y="18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079640" y="204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079640" y="222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079640" y="240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79640" y="25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79640" y="276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079640" y="29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79640" y="31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079640" y="330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079640" y="34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079640" y="366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079640" y="38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079640" y="40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79640" y="420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79640" y="438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079640" y="45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079640" y="474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079640" y="492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079640" y="510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079640" y="528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79640" y="54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079640" y="56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079640" y="58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3811680" y="2043000"/>
              <a:ext cx="16761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573880" y="2060280"/>
              <a:ext cx="0" cy="288000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"/>
            <p:cNvGrpSpPr/>
            <p:nvPr/>
          </p:nvGrpSpPr>
          <p:grpSpPr>
            <a:xfrm>
              <a:off x="4096080" y="4268520"/>
              <a:ext cx="1261080" cy="1356120"/>
              <a:chOff x="4096080" y="4268520"/>
              <a:chExt cx="1261080" cy="135612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4096080" y="4272480"/>
                <a:ext cx="1257120" cy="12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5327640" y="4268520"/>
                <a:ext cx="2952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5221800" y="43732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5113800" y="448128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5008680" y="458568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907160" y="468936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801680" y="479376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693680" y="4902120"/>
                <a:ext cx="2952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4587840" y="50068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4486680" y="510912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381200" y="521352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4273200" y="53218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4167720" y="542664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3230640" y="4032000"/>
              <a:ext cx="0" cy="180036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116000" y="4927320"/>
              <a:ext cx="72010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257640" y="6005520"/>
              <a:ext cx="1439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87960" y="4908240"/>
              <a:ext cx="54000" cy="54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125800" y="4908240"/>
              <a:ext cx="54000" cy="54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30400" y="4937040"/>
              <a:ext cx="257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73480" y="4917960"/>
              <a:ext cx="3430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54440" y="573696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2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5101920" y="367488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4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64040" y="4889520"/>
              <a:ext cx="323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59480" y="4956120"/>
              <a:ext cx="323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itionnement de l’image A’B’ d’un objet AB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à travers la lentille se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1480" y="4548240"/>
            <a:ext cx="82296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90560" y="4746600"/>
            <a:ext cx="7837560" cy="900000"/>
            <a:chOff x="790560" y="4746600"/>
            <a:chExt cx="7837560" cy="900000"/>
          </a:xfrm>
        </p:grpSpPr>
        <p:sp>
          <p:nvSpPr>
            <p:cNvPr id="242" name=""/>
            <p:cNvSpPr/>
            <p:nvPr/>
          </p:nvSpPr>
          <p:spPr>
            <a:xfrm>
              <a:off x="790560" y="4752720"/>
              <a:ext cx="243864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29200" y="4746600"/>
              <a:ext cx="5398920" cy="900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66920" y="4749840"/>
              <a:ext cx="1904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0040" y="4832280"/>
              <a:ext cx="165240" cy="316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066680" y="4381560"/>
            <a:ext cx="7207200" cy="1085400"/>
            <a:chOff x="1066680" y="4381560"/>
            <a:chExt cx="7207200" cy="1085400"/>
          </a:xfrm>
        </p:grpSpPr>
        <p:sp>
          <p:nvSpPr>
            <p:cNvPr id="247" name=""/>
            <p:cNvSpPr/>
            <p:nvPr/>
          </p:nvSpPr>
          <p:spPr>
            <a:xfrm>
              <a:off x="1066680" y="4381560"/>
              <a:ext cx="2158920" cy="10796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42880" y="5016600"/>
              <a:ext cx="152280" cy="763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31720" y="5461200"/>
              <a:ext cx="504216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3593880" y="5454360"/>
              <a:ext cx="355680" cy="1260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33320" y="4610160"/>
            <a:ext cx="7197840" cy="900000"/>
            <a:chOff x="733320" y="4610160"/>
            <a:chExt cx="7197840" cy="900000"/>
          </a:xfrm>
        </p:grpSpPr>
        <p:sp>
          <p:nvSpPr>
            <p:cNvPr id="252" name=""/>
            <p:cNvSpPr/>
            <p:nvPr/>
          </p:nvSpPr>
          <p:spPr>
            <a:xfrm>
              <a:off x="733320" y="4610160"/>
              <a:ext cx="7197840" cy="900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84480" y="4794120"/>
              <a:ext cx="164880" cy="1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30480" y="5010120"/>
              <a:ext cx="165240" cy="19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3257640" y="4700520"/>
            <a:ext cx="4560480" cy="1755720"/>
            <a:chOff x="3257640" y="4700520"/>
            <a:chExt cx="4560480" cy="1755720"/>
          </a:xfrm>
        </p:grpSpPr>
        <p:grpSp>
          <p:nvGrpSpPr>
            <p:cNvPr id="256" name=""/>
            <p:cNvGrpSpPr/>
            <p:nvPr/>
          </p:nvGrpSpPr>
          <p:grpSpPr>
            <a:xfrm>
              <a:off x="7456320" y="4700520"/>
              <a:ext cx="361800" cy="952560"/>
              <a:chOff x="7456320" y="4700520"/>
              <a:chExt cx="361800" cy="952560"/>
            </a:xfrm>
          </p:grpSpPr>
          <p:sp>
            <p:nvSpPr>
              <p:cNvPr id="257" name=""/>
              <p:cNvSpPr/>
              <p:nvPr/>
            </p:nvSpPr>
            <p:spPr>
              <a:xfrm>
                <a:off x="7552800" y="4938840"/>
                <a:ext cx="0" cy="5396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456320" y="4700520"/>
                <a:ext cx="32364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494120" y="5338800"/>
                <a:ext cx="3240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B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3257640" y="6186600"/>
              <a:ext cx="4319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59280" y="614196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6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592280" y="4565520"/>
            <a:ext cx="1625760" cy="1484280"/>
            <a:chOff x="1592280" y="4565520"/>
            <a:chExt cx="1625760" cy="1484280"/>
          </a:xfrm>
        </p:grpSpPr>
        <p:grpSp>
          <p:nvGrpSpPr>
            <p:cNvPr id="263" name=""/>
            <p:cNvGrpSpPr/>
            <p:nvPr/>
          </p:nvGrpSpPr>
          <p:grpSpPr>
            <a:xfrm>
              <a:off x="1592280" y="4565520"/>
              <a:ext cx="266760" cy="619200"/>
              <a:chOff x="1592280" y="4565520"/>
              <a:chExt cx="266760" cy="619200"/>
            </a:xfrm>
          </p:grpSpPr>
          <p:sp>
            <p:nvSpPr>
              <p:cNvPr id="264" name=""/>
              <p:cNvSpPr/>
              <p:nvPr/>
            </p:nvSpPr>
            <p:spPr>
              <a:xfrm flipV="1">
                <a:off x="1801800" y="4746600"/>
                <a:ext cx="0" cy="180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592280" y="4565520"/>
                <a:ext cx="2574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02000" y="4870440"/>
                <a:ext cx="25704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1778040" y="6004080"/>
              <a:ext cx="144000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274840" y="573552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2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1079640" y="1619280"/>
            <a:ext cx="7237440" cy="4836960"/>
            <a:chOff x="1079640" y="1619280"/>
            <a:chExt cx="7237440" cy="4836960"/>
          </a:xfrm>
        </p:grpSpPr>
        <p:grpSp>
          <p:nvGrpSpPr>
            <p:cNvPr id="270" name=""/>
            <p:cNvGrpSpPr/>
            <p:nvPr/>
          </p:nvGrpSpPr>
          <p:grpSpPr>
            <a:xfrm>
              <a:off x="1079640" y="1619280"/>
              <a:ext cx="7200720" cy="4319640"/>
              <a:chOff x="1079640" y="1619280"/>
              <a:chExt cx="7200720" cy="4319640"/>
            </a:xfrm>
          </p:grpSpPr>
          <p:grpSp>
            <p:nvGrpSpPr>
              <p:cNvPr id="271" name=""/>
              <p:cNvGrpSpPr/>
              <p:nvPr/>
            </p:nvGrpSpPr>
            <p:grpSpPr>
              <a:xfrm>
                <a:off x="1079640" y="1619280"/>
                <a:ext cx="7200360" cy="4319640"/>
                <a:chOff x="1079640" y="1619280"/>
                <a:chExt cx="7200360" cy="43196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107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125928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143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161928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179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97928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15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33928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52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69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288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05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323928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41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359928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77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95928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414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431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50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67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86000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03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22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40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557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76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93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12000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29964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48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65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84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702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720000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38000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56036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740000" y="1619280"/>
                  <a:ext cx="72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92036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10000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8279640" y="1619280"/>
                  <a:ext cx="360" cy="4319640"/>
                </a:xfrm>
                <a:custGeom>
                  <a:avLst/>
                  <a:gdLst/>
                  <a:ahLst/>
                  <a:rect l="l" t="t" r="r" b="b"/>
                  <a:pathLst>
                    <a:path w="1" h="16442">
                      <a:moveTo>
                        <a:pt x="0" y="0"/>
                      </a:moveTo>
                      <a:lnTo>
                        <a:pt x="0" y="16441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3" name=""/>
              <p:cNvSpPr/>
              <p:nvPr/>
            </p:nvSpPr>
            <p:spPr>
              <a:xfrm>
                <a:off x="1079640" y="16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079640" y="18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079640" y="204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079640" y="222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079640" y="240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079640" y="25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079640" y="276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079640" y="294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079640" y="312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79640" y="330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79640" y="348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79640" y="366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079640" y="384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79640" y="40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79640" y="420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079640" y="43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079640" y="456660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079640" y="474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9640" y="492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079640" y="510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079640" y="528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079640" y="546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079640" y="564696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079640" y="5827320"/>
                <a:ext cx="7200720" cy="360"/>
              </a:xfrm>
              <a:custGeom>
                <a:avLst/>
                <a:gdLst/>
                <a:ahLst/>
                <a:rect l="l" t="t" r="r" b="b"/>
                <a:pathLst>
                  <a:path w="11339" h="1">
                    <a:moveTo>
                      <a:pt x="0" y="0"/>
                    </a:moveTo>
                    <a:lnTo>
                      <a:pt x="11338" y="0"/>
                    </a:lnTo>
                  </a:path>
                </a:pathLst>
              </a:custGeom>
              <a:noFill/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3811680" y="2043000"/>
              <a:ext cx="167616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73880" y="2060640"/>
              <a:ext cx="0" cy="287964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4096080" y="4268520"/>
              <a:ext cx="1261080" cy="1356120"/>
              <a:chOff x="4096080" y="4268520"/>
              <a:chExt cx="1261080" cy="135612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4096080" y="4272480"/>
                <a:ext cx="1257120" cy="1258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5327640" y="4268520"/>
                <a:ext cx="2952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221800" y="43732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5113800" y="448128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5008680" y="458568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4907160" y="468936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4801680" y="479376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H="1">
                <a:off x="4693680" y="4902120"/>
                <a:ext cx="2952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>
                <a:off x="4587840" y="50068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4486680" y="5109120"/>
                <a:ext cx="2952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4381200" y="521352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4273200" y="5321880"/>
                <a:ext cx="29880" cy="19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4167720" y="5426640"/>
                <a:ext cx="29880" cy="19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3230640" y="4032360"/>
              <a:ext cx="0" cy="18000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116000" y="4927680"/>
              <a:ext cx="720108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1801800" y="4746240"/>
              <a:ext cx="0" cy="18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556400" y="4937040"/>
              <a:ext cx="0" cy="540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95840" y="6005520"/>
              <a:ext cx="2879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57640" y="6005520"/>
              <a:ext cx="1439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87960" y="4908600"/>
              <a:ext cx="54000" cy="54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125800" y="4908600"/>
              <a:ext cx="54000" cy="54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30400" y="4937040"/>
              <a:ext cx="257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73480" y="4917960"/>
              <a:ext cx="3430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F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54440" y="573732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2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5400000">
              <a:off x="5079960" y="3730680"/>
              <a:ext cx="7221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4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592280" y="4565520"/>
              <a:ext cx="2570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601640" y="4870440"/>
              <a:ext cx="2574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59560" y="4699080"/>
              <a:ext cx="324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97720" y="5337000"/>
              <a:ext cx="32400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B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64040" y="4889520"/>
              <a:ext cx="323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659480" y="4956120"/>
              <a:ext cx="323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257640" y="6186600"/>
              <a:ext cx="4319640" cy="0"/>
            </a:xfrm>
            <a:prstGeom prst="line">
              <a:avLst/>
            </a:prstGeom>
            <a:ln cap="rnd" w="1260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840280" y="5751360"/>
              <a:ext cx="68580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4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859280" y="6141960"/>
              <a:ext cx="6858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600m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sitionnement de l’image A’’B’’ de l’image A’B’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à travers le miroir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5372280" y="2087280"/>
            <a:ext cx="2160360" cy="2160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4592520" y="1793880"/>
            <a:ext cx="2955960" cy="3127320"/>
            <a:chOff x="4592520" y="1793880"/>
            <a:chExt cx="2955960" cy="3127320"/>
          </a:xfrm>
        </p:grpSpPr>
        <p:sp>
          <p:nvSpPr>
            <p:cNvPr id="378" name=""/>
            <p:cNvSpPr/>
            <p:nvPr/>
          </p:nvSpPr>
          <p:spPr>
            <a:xfrm>
              <a:off x="4668840" y="2041560"/>
              <a:ext cx="2879640" cy="2879640"/>
            </a:xfrm>
            <a:prstGeom prst="line">
              <a:avLst/>
            </a:prstGeom>
            <a:ln w="1908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92520" y="1793880"/>
              <a:ext cx="486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ff"/>
                  </a:solidFill>
                  <a:latin typeface="Comic Sans MS"/>
                </a:rPr>
                <a:t>A’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3973680" y="1803240"/>
            <a:ext cx="3581280" cy="3659400"/>
            <a:chOff x="3973680" y="1803240"/>
            <a:chExt cx="3581280" cy="3659400"/>
          </a:xfrm>
        </p:grpSpPr>
        <p:sp>
          <p:nvSpPr>
            <p:cNvPr id="381" name=""/>
            <p:cNvSpPr/>
            <p:nvPr/>
          </p:nvSpPr>
          <p:spPr>
            <a:xfrm>
              <a:off x="4135320" y="2041560"/>
              <a:ext cx="3419640" cy="342108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973680" y="1803240"/>
              <a:ext cx="485640" cy="31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Comic Sans MS"/>
                </a:rPr>
                <a:t>B’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"/>
          <p:cNvSpPr/>
          <p:nvPr/>
        </p:nvSpPr>
        <p:spPr>
          <a:xfrm flipH="1">
            <a:off x="4120920" y="2044800"/>
            <a:ext cx="5396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che d’un faisceau issu de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079640" y="1619280"/>
            <a:ext cx="7237440" cy="4319640"/>
            <a:chOff x="1079640" y="1619280"/>
            <a:chExt cx="7237440" cy="4319640"/>
          </a:xfrm>
        </p:grpSpPr>
        <p:grpSp>
          <p:nvGrpSpPr>
            <p:cNvPr id="387" name=""/>
            <p:cNvGrpSpPr/>
            <p:nvPr/>
          </p:nvGrpSpPr>
          <p:grpSpPr>
            <a:xfrm>
              <a:off x="1079640" y="1619280"/>
              <a:ext cx="7237440" cy="4319640"/>
              <a:chOff x="1079640" y="1619280"/>
              <a:chExt cx="7237440" cy="4319640"/>
            </a:xfrm>
          </p:grpSpPr>
          <p:grpSp>
            <p:nvGrpSpPr>
              <p:cNvPr id="388" name=""/>
              <p:cNvGrpSpPr/>
              <p:nvPr/>
            </p:nvGrpSpPr>
            <p:grpSpPr>
              <a:xfrm>
                <a:off x="1079640" y="1619280"/>
                <a:ext cx="7200720" cy="4319640"/>
                <a:chOff x="1079640" y="1619280"/>
                <a:chExt cx="7200720" cy="4319640"/>
              </a:xfrm>
            </p:grpSpPr>
            <p:grpSp>
              <p:nvGrpSpPr>
                <p:cNvPr id="389" name=""/>
                <p:cNvGrpSpPr/>
                <p:nvPr/>
              </p:nvGrpSpPr>
              <p:grpSpPr>
                <a:xfrm>
                  <a:off x="1079640" y="1619280"/>
                  <a:ext cx="7200360" cy="4319640"/>
                  <a:chOff x="1079640" y="1619280"/>
                  <a:chExt cx="7200360" cy="431964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>
                    <a:off x="107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125928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143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"/>
                  <p:cNvSpPr/>
                  <p:nvPr/>
                </p:nvSpPr>
                <p:spPr>
                  <a:xfrm>
                    <a:off x="161928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179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97928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215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233928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252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269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288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305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>
                    <a:off x="323928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>
                    <a:off x="341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>
                    <a:off x="359928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>
                    <a:off x="377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>
                    <a:off x="395928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>
                    <a:off x="414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>
                    <a:off x="431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450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>
                    <a:off x="467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486000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03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522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540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557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576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593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612000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629964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648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665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>
                    <a:off x="684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>
                    <a:off x="702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>
                    <a:off x="720000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>
                    <a:off x="738000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>
                    <a:off x="756036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>
                    <a:off x="7740000" y="1619280"/>
                    <a:ext cx="72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>
                    <a:off x="792036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>
                    <a:off x="810000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>
                    <a:off x="8279640" y="1619280"/>
                    <a:ext cx="360" cy="431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" h="16442">
                        <a:moveTo>
                          <a:pt x="0" y="0"/>
                        </a:moveTo>
                        <a:lnTo>
                          <a:pt x="0" y="16441"/>
                        </a:lnTo>
                      </a:path>
                    </a:pathLst>
                  </a:custGeom>
                  <a:noFill/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31" name=""/>
                <p:cNvSpPr/>
                <p:nvPr/>
              </p:nvSpPr>
              <p:spPr>
                <a:xfrm>
                  <a:off x="1079640" y="168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079640" y="186660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1079640" y="204732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079640" y="222660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079640" y="240732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1079640" y="258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1079640" y="276732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1079640" y="294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1079640" y="312732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1079640" y="330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079640" y="348732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079640" y="366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1079640" y="384660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079640" y="402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079640" y="420660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1079640" y="438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079640" y="456660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079640" y="474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1079640" y="492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1079640" y="510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1079640" y="528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1079640" y="546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079640" y="564696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1079640" y="5827320"/>
                  <a:ext cx="7200720" cy="360"/>
                </a:xfrm>
                <a:custGeom>
                  <a:avLst/>
                  <a:gdLst/>
                  <a:ahLst/>
                  <a:rect l="l" t="t" r="r" b="b"/>
                  <a:pathLst>
                    <a:path w="11339" h="1">
                      <a:moveTo>
                        <a:pt x="0" y="0"/>
                      </a:moveTo>
                      <a:lnTo>
                        <a:pt x="11338" y="0"/>
                      </a:lnTo>
                    </a:path>
                  </a:pathLst>
                </a:custGeom>
                <a:noFill/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>
                <a:off x="3811680" y="2043000"/>
                <a:ext cx="167616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4096080" y="4268520"/>
                <a:ext cx="1261080" cy="1356120"/>
                <a:chOff x="4096080" y="4268520"/>
                <a:chExt cx="1261080" cy="1356120"/>
              </a:xfrm>
            </p:grpSpPr>
            <p:sp>
              <p:nvSpPr>
                <p:cNvPr id="457" name=""/>
                <p:cNvSpPr/>
                <p:nvPr/>
              </p:nvSpPr>
              <p:spPr>
                <a:xfrm flipH="1">
                  <a:off x="4096080" y="4272480"/>
                  <a:ext cx="1257120" cy="1258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>
                  <a:off x="5327640" y="4268520"/>
                  <a:ext cx="29520" cy="19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5221800" y="4373280"/>
                  <a:ext cx="29880" cy="19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>
                  <a:off x="5113800" y="4481280"/>
                  <a:ext cx="29880" cy="19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5008680" y="4585680"/>
                  <a:ext cx="29520" cy="19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4907160" y="4689360"/>
                  <a:ext cx="29880" cy="19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 flipH="1">
                  <a:off x="4801680" y="4793760"/>
                  <a:ext cx="29520" cy="19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4693680" y="4902120"/>
                  <a:ext cx="29520" cy="19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 flipH="1">
                  <a:off x="4587840" y="5006880"/>
                  <a:ext cx="29880" cy="19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 flipH="1">
                  <a:off x="4486680" y="5109120"/>
                  <a:ext cx="29520" cy="19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4381200" y="5213520"/>
                  <a:ext cx="29880" cy="19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>
                  <a:off x="4273200" y="5321880"/>
                  <a:ext cx="29880" cy="197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4167720" y="5426640"/>
                  <a:ext cx="29880" cy="198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"/>
              <p:cNvSpPr/>
              <p:nvPr/>
            </p:nvSpPr>
            <p:spPr>
              <a:xfrm>
                <a:off x="3230640" y="4032360"/>
                <a:ext cx="0" cy="180000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116000" y="4927680"/>
                <a:ext cx="7201080" cy="0"/>
              </a:xfrm>
              <a:prstGeom prst="line">
                <a:avLst/>
              </a:prstGeom>
              <a:ln cap="rnd" w="1260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1801800" y="4746240"/>
                <a:ext cx="0" cy="18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556400" y="4937040"/>
                <a:ext cx="0" cy="54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287960" y="4908600"/>
                <a:ext cx="54000" cy="54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125800" y="4908600"/>
                <a:ext cx="54000" cy="540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030400" y="4937040"/>
                <a:ext cx="25704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F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173480" y="4917960"/>
                <a:ext cx="34308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F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592280" y="4565520"/>
                <a:ext cx="25704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01640" y="4870440"/>
                <a:ext cx="2574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459560" y="4699080"/>
                <a:ext cx="32400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497720" y="5337000"/>
                <a:ext cx="324000" cy="314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B’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164040" y="4889520"/>
                <a:ext cx="32364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659480" y="4956120"/>
                <a:ext cx="32364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4592520" y="1797120"/>
              <a:ext cx="48600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’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73680" y="1806480"/>
              <a:ext cx="48564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B’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4133520" y="2048040"/>
              <a:ext cx="5396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1417680" y="4035600"/>
            <a:ext cx="6121440" cy="1441440"/>
            <a:chOff x="1417680" y="4035600"/>
            <a:chExt cx="6121440" cy="1441440"/>
          </a:xfrm>
        </p:grpSpPr>
        <p:sp>
          <p:nvSpPr>
            <p:cNvPr id="488" name=""/>
            <p:cNvSpPr/>
            <p:nvPr/>
          </p:nvSpPr>
          <p:spPr>
            <a:xfrm flipV="1">
              <a:off x="1417680" y="4040280"/>
              <a:ext cx="1800360" cy="900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20920" y="4035600"/>
              <a:ext cx="4318200" cy="144144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233880" y="4035600"/>
              <a:ext cx="1765080" cy="5904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 flipH="1" flipV="1">
            <a:off x="4135320" y="2047680"/>
            <a:ext cx="876240" cy="257796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69880" y="4595760"/>
            <a:ext cx="7337520" cy="916200"/>
            <a:chOff x="569880" y="4595760"/>
            <a:chExt cx="7337520" cy="916200"/>
          </a:xfrm>
        </p:grpSpPr>
        <p:sp>
          <p:nvSpPr>
            <p:cNvPr id="493" name=""/>
            <p:cNvSpPr/>
            <p:nvPr/>
          </p:nvSpPr>
          <p:spPr>
            <a:xfrm>
              <a:off x="569880" y="4595760"/>
              <a:ext cx="3963960" cy="4888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09560" y="4611600"/>
              <a:ext cx="7197840" cy="900360"/>
            </a:xfrm>
            <a:prstGeom prst="line">
              <a:avLst/>
            </a:prstGeom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 flipH="1" flipV="1">
            <a:off x="4133880" y="2038320"/>
            <a:ext cx="393840" cy="30542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95320" y="4033800"/>
            <a:ext cx="1432080" cy="895320"/>
          </a:xfrm>
          <a:custGeom>
            <a:avLst/>
            <a:gdLst/>
            <a:ahLst/>
            <a:rect l="l" t="t" r="r" b="b"/>
            <a:pathLst>
              <a:path w="903" h="564">
                <a:moveTo>
                  <a:pt x="0" y="453"/>
                </a:moveTo>
                <a:lnTo>
                  <a:pt x="903" y="0"/>
                </a:lnTo>
                <a:lnTo>
                  <a:pt x="903" y="564"/>
                </a:lnTo>
                <a:lnTo>
                  <a:pt x="0" y="453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27400" y="4033800"/>
            <a:ext cx="1770120" cy="1062000"/>
          </a:xfrm>
          <a:custGeom>
            <a:avLst/>
            <a:gdLst/>
            <a:ahLst/>
            <a:rect l="l" t="t" r="r" b="b"/>
            <a:pathLst>
              <a:path w="1116" h="669">
                <a:moveTo>
                  <a:pt x="0" y="0"/>
                </a:moveTo>
                <a:lnTo>
                  <a:pt x="3" y="567"/>
                </a:lnTo>
                <a:lnTo>
                  <a:pt x="819" y="669"/>
                </a:lnTo>
                <a:lnTo>
                  <a:pt x="1116" y="372"/>
                </a:lnTo>
                <a:lnTo>
                  <a:pt x="0" y="0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33880" y="2038320"/>
            <a:ext cx="876240" cy="3057480"/>
          </a:xfrm>
          <a:custGeom>
            <a:avLst/>
            <a:gdLst/>
            <a:ahLst/>
            <a:rect l="l" t="t" r="r" b="b"/>
            <a:pathLst>
              <a:path w="552" h="1926">
                <a:moveTo>
                  <a:pt x="249" y="1926"/>
                </a:moveTo>
                <a:lnTo>
                  <a:pt x="552" y="1620"/>
                </a:lnTo>
                <a:lnTo>
                  <a:pt x="0" y="0"/>
                </a:lnTo>
                <a:lnTo>
                  <a:pt x="249" y="1926"/>
                </a:lnTo>
                <a:close/>
              </a:path>
            </a:pathLst>
          </a:custGeom>
          <a:solidFill>
            <a:srgbClr val="0000ff">
              <a:alpha val="40000"/>
            </a:srgbClr>
          </a:solidFill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3:48:51Z</dcterms:created>
  <dc:creator>GD</dc:creator>
  <dc:description/>
  <dc:language>en-US</dc:language>
  <cp:lastModifiedBy>Jocelyn CLEMENT</cp:lastModifiedBy>
  <dcterms:modified xsi:type="dcterms:W3CDTF">2009-03-14T13:55:20Z</dcterms:modified>
  <cp:revision>24</cp:revision>
  <dc:subject/>
  <dc:title>Principe du rétroprojecteur</dc:title>
</cp:coreProperties>
</file>